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History</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fontScale="97000"/>
          </a:bodyPr>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cal history of a patient is the most useful and important element in making an accurate diagnosis, much more valuable than either physical examinations or diagnostic tests. The medical interview is the process of gathering data that will lead to an understanding of the disease and the underlying physiological process. To be effective, an interviewer must possess good communication skills and be alert to nonverbal clues as well as to the verbal message. Often, more information is conveyed by nonverbal actions and tone of voice than by words. The objective is to obtain an accurate and comprehensive picture of the patient’s situation, including the nature and timing of symptoms, emotional factors and past medical conditions that may place the patient at greater risk for certain diseases................</a:t>
            </a:r>
            <a:endParaRPr b="0" lang="en-US" sz="2000" spc="-1" strike="noStrike">
              <a:solidFill>
                <a:srgbClr val="000000"/>
              </a:solidFill>
              <a:latin typeface="Arial"/>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in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n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p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sp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us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cul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dical hi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bjective of the medical inter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it difficult to obtain meaningful data from the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 complete medical history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n account of the present illness incl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e past medical history so 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be mentioned in a family hi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y occupational and psychosocial history influence future medical decis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review of body systems prov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basic methods of the physical exa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correct answer:</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underly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ic          peripheral       indispensable      in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dist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fort      pain                 trouble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botherso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ertaining      intriguing       tedious         seri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ons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ish             movement          change           st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rd below means nearly the same as “reta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ease         prevent             grasp              contin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the sentence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cal interview i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uracy and usefulness of the medical interview depend o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medications are listed..............................................................</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verall view of the patient’s health is give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mily history is important because...................................................</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the workplace may be the cause of..................................</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sychosocial history show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ajor body systems are reviewed i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orking diagnosis is established whe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are usually anxious and apprehens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correct tens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ed that you (finish) your work before you came her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sure that he (write) the report for the meeting by seven o’clock.</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ime next month she (have) an interview with one very important perso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friend wanted to see what sort of stories he (read) now.</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look for) this interesting book for week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talk) with her sister, but she stopped as he (come in).</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very tired; they (study) for that exam for four hour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t do that exercise as well as you (do) it up to now.</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get) all the information we (want) when we were at the congress.</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find) it difficult to repeat all these reports every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Велики спектар софистицираних инструмената се може користити да би се извршили детаљни прегледи, али добро обављен визуелни преглед може често дати више информација. Лекарима се препоручује да пажљиво погледају пацијенте пре него што их додирну и да даље развијају моћ опсервације јер она представља једно од највећих дијагностичких оруђа. Преглед почиње са општим изгледом пацијента, стањем ухрањености, симетрије и држања. Лекар онда наставља са посебним прегледом коже – тражећи знаке црвенила или инфекције, губитка косе, задебљања ноктију и младежа или других пигментисаних делова – и распитује се за скорије промене код лезија коже које би могле наговестити рану појаву канцера. Преглед ноктију може да обезбеди вежне информације о системским болестим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10-23T15:36:45Z</dcterms:modified>
  <cp:revision>17</cp:revision>
  <dc:subject/>
  <dc:title>Slide 1</dc:title>
</cp:coreProperties>
</file>